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F672-284D-4BB5-BBC3-9FD45540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A015-62E2-4303-9CD1-7793A95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68D9-AAF5-48C5-A13F-EDCC2CCB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BCF1-D408-426A-8497-42CDE98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DD89-F9BD-4D3A-AB65-8A417CF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A7F7-6E73-4CC7-8162-46B9B1D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B79-53C6-41E1-AB4B-C64CBCF8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24FD-706C-4924-A6F2-E0563EB5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2E1B-F510-4A2A-8407-EB9E66C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808E-FDDA-417C-B6D0-93612BA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095-4C26-45D2-B443-E7A3849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E244-7677-4C8F-B056-3437D3FC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4FDD-7360-4F49-8EC7-41546B7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CAB8-7E1D-4636-9088-3F1850F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EF64-8026-49CC-BD3E-C0FFB4E6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02D-F45E-4E42-BDDB-A48A0BAB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DD3-D31D-4766-B0DD-95FB5404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5B45-16CC-4FBC-A36C-6F59FA30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687D-67DB-416E-A859-2B8F4F41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7588-ED98-4BB3-9127-A4AAB89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43BA-DF20-43A1-A4D6-903AF3B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7C44-5BD7-402F-B302-DFFA962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EF14-0896-4897-9470-0496A53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9F7C-E7E9-4257-A020-307E5B5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252E-9BD2-4208-B620-DB0475765D9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2075-7FD0-4E46-92B4-C3FEBC36A4E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387080"/>
            <a:ext cx="972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2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час, всеки ч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желая моя Спас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Приятел е чудес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- най-сладката ми пес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уг не ща да зная аз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О, любов, о, любов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и чуден благосл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ога ще дойде врем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, спасен от всяко брем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 да гледам 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3248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В горний двор, в горний двор чуй се ангелският хо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оро с радост ще възклик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ато с крила ще лит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небесния просто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Малко ощ, малко ощ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е свърши земна нощ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газ в улиците злат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ион, град благодат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ме води Бог мой с м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2231280"/>
            <a:ext cx="950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. О, мой рай, о, мой ра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еб блаженство е безк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воровете ти небес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ще пея хвални пес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заведи ме в ра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10:30Z</dcterms:modified>
  <cp:revision>47</cp:revision>
  <dc:subject/>
  <dc:title>Slide 1</dc:title>
</cp:coreProperties>
</file>